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A4C-3080-44D5-90A7-BF49D76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93A-4FD8-417E-8794-99A35C7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88A-461A-4B46-960A-1B21186B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7D9-6519-4945-B13B-D9038158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F7D-7DEC-4E0C-9423-AA06883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4C4-9CF3-4B41-AB58-9FF3AB0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AD7-753C-4E96-97A6-4121973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383-E939-4033-8126-65E53C8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90B-201A-42A0-BDEB-A3522A5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618-6774-4DFB-8967-940EF770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942-7731-4A79-BA89-C0A7FF2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201-AC5A-43AC-B0BE-B58C50B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3A47B6-A982-44E4-BE85-7993B890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Channel Selection (DCS) Scheme for 802.1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Cervello, S. Choi, S. Mangold, and A. Soom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4FA-6D42-400C-9C4F-084DA572FA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E6F1E-383E-4186-BF75-6D1EF80294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 to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 or define new fields in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broadcast it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implement some ACK mechanism for some STAs such as ones with isochronous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AB6-8A72-40E5-BC8C-E056C8693F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CD0E1-7470-487F-934F-40A9CB711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oves first, then ST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imple as changing the carrie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no such a service primitive d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LME primitives such as MLME-JUMP.request &amp; MLME-JUMP.con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not to require any change in PHY since channel change can be ordered to existing PHY by M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move at the end of a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166-59AE-493F-A37E-F852FC846D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7684C-BDA1-42D4-96F3-9B7987F16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C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dd some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some new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al can be defined WITHOUT any change in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AB9-7943-43FE-9231-88FD018224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FE61-44D8-4332-81A5-0A3BD60E3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Channel Selection (DCS) instead of DFS for 802.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 requires DF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have DCS for some environments, e.g., home environment and offices in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S first, if not working,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a DCS mechanism WITHOUT requiring any change in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work with all the current and futur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subject to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E1C-EBB7-49E8-9855-0138CEBD4B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5A6D9-5DF7-4A61-B9A8-0B1FA3668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Basic Mechanism for Infrastructure B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2C8-2D64-47BC-8736-4C2085E538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E7F02-E98F-4148-AEC1-60CBF99F9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is formed by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 and/or STA(s) of a BSS experience bad channel condition per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management frames for the channel condition feedback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ames can work for overlapping BSS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CD4-B2C1-4E3B-8946-1A0E9362A9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5B5D0-1EF1-4228-858F-05AD24A59F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TAs will be considered as sleeping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by AP not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nagement frame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begin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nels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(explained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1BA-EE71-4767-912B-37C737A167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35336-6328-4361-914F-CC263B1C81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RSSI and PER when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busy channel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other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“scan” service from MLME to 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ME-SCAN.request and MLME-SCAN.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5A3-488D-4168-90DE-9A416635E7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462D6-71D4-497A-8C15-929F7A76D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RSSI and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I value is available to MAC via PHY_RXSTART only when a meaningful MAC fram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andardize the RSSI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busy channel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ime and number of cases of PHY_CCA(BUSY) without PHY_R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measure alien devices, e.g., H/2 and 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C18-EBD3-4DF6-9375-ACDB7926B7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C8407-7DB5-4BF8-8FED-3278780ED7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BSS detected in a channel, the result of the third measurement is only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95C-5AFE-459C-9A9F-2DA4B19D95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2A823-E305-4B1D-9AD1-4440F72C21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per deciding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other channels with the curren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33F-457B-4527-B931-D95654AE8A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58EF6-3608-478A-87E6-BD322AC75D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7-11T03:48:56Z</dcterms:modified>
  <cp:revision>69</cp:revision>
  <dc:subject>Submissions</dc:subject>
  <dc:title>Dynamic Channel Selection (DCS) Scheme for 802.11</dc:title>
</cp:coreProperties>
</file>