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8CC0-34FD-4D98-BFFA-82F481007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F58C-74AD-488D-B0FB-F8BDF024D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56D8-C8FE-4D98-87CE-7A36BC177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38E8-7B85-4358-B1E8-4448C775D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03B6-EBA1-4C1D-920D-D5937BEFE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F9DC-C737-43A0-88D8-25ED26AB1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0728-31DA-42E4-A7AB-9AB4C6B57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CB59-085A-4295-A54C-73A34D58F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854B-7694-44A3-A99F-5A80566C9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A224-F9B6-45C2-A58A-C6E23D2F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F3BB-D30A-45B0-B7D5-9AC7B6AB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EC3C-4033-49F1-9668-4D520EA9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182520"/>
            <a:ext cx="121932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847F030-DA94-4EFD-ADA4-05FCB9836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19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Collision Avoidance in Overlapping BSSs of 802.11 WLAN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ard G. Cervello and Sunghyun Cho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ilips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arcliff Manor, New Y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936B-65AF-4F97-9F91-9A42FC9A0D6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DF70FE-59D0-4778-BB3A-4DE245E9C3E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609480" y="1152360"/>
          <a:ext cx="7848720" cy="570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152360"/>
                    <a:ext cx="7848720" cy="57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533520" y="1152360"/>
          <a:ext cx="7848360" cy="570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1152360"/>
                    <a:ext cx="7848360" cy="57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609480" y="1152360"/>
          <a:ext cx="7848720" cy="570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1152360"/>
                    <a:ext cx="7848720" cy="57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533520" y="1152360"/>
          <a:ext cx="7848360" cy="5705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520" y="1152360"/>
                    <a:ext cx="7848360" cy="57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Usage of ONAV (Situation C)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716B-42DA-43C1-BA4B-89387C0D4A1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3D2627-87A8-4865-A802-03FFB9D5938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762120" y="2984400"/>
          <a:ext cx="8001000" cy="387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984400"/>
                    <a:ext cx="8001000" cy="38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762120" y="2971800"/>
          <a:ext cx="8001000" cy="387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971800"/>
                    <a:ext cx="8001000" cy="38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762120" y="2984400"/>
          <a:ext cx="8001000" cy="387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2984400"/>
                    <a:ext cx="8001000" cy="38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Physical Channel Sensing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nel sensing by PC in CFP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frame (e.g., beacon) transmitted in CFB/C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CF-poll (+data+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C35F-38AD-4814-AF22-F0A475E9D41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E9B516-1002-40C7-A8C6-3E48A96365D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air Channel Sharing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contention window size for channel-releasing 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ank CFB: need to adjust CFBMaxD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533520" y="2625840"/>
          <a:ext cx="8001000" cy="40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625840"/>
                    <a:ext cx="8001000" cy="40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EE14-E21A-4BB8-B11C-CB2CB974306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2A0204-48BB-4A2A-A8CD-21E0428F7B0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RTS/CTS during CFP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ment to CFB for situations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Ps cannot hear to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work as a channel probing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revent collisions due to bursty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5402-82C0-423E-A5A6-D05EE78B887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F2AE78-AD6A-41F5-9A70-F025C7765B0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27000"/>
          </a:bodyPr>
          <a:p>
            <a:pPr marL="92520" indent="-9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+ CF-Ack + CF-Poll: not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TS actually not updating ONA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,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s actual “Duration” per 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f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fg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609480" y="1752480"/>
          <a:ext cx="7620120" cy="28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752480"/>
                    <a:ext cx="7620120" cy="28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Operations of RTS/CTS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B958-4827-4E85-95A1-A4B585F5733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DA9309-14A6-465D-88B8-9FA53234B85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eedback System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 reports existence of other BSSs and frame reception statistics to its 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frames received (in err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S” and/or “From DS” frames rece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determine whether to use RTS/CTS and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also to initiate a dynamic channel selection (00/195r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7F6D-7F84-46B5-847E-C90B4FFE1C1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598B60-03EA-4FF0-9B59-67B64947E18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Summary of Proposal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chanism of RTS/CTS in CF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 about when to use and its lim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 of Overlapping NAV (ONA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with how to use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channel sensing during CF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first frame (of a CFB) and CF-poll fr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ation on channel sharing fairness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19B3-6D4A-460E-94C7-85B0FEAF6C2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079BA0-36A2-4F64-B305-F97FB80A60E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Open Questions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handle situation 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ither CFB nor RTS/CTS works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situation B via Dynamic Channel Selection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rness issu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handle the fairness without explicit communication between A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155C-B3E9-41C0-9BBF-00903710E55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C7AAE9-5FE6-4706-B368-D506F6D9225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Overlapping BSS Issue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pendent from core .11e MAC propos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long as they are based on PC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red/proposed mech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channel selection (00/195r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nel sharing among overlapping BS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or correction/control and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nel sharing with feedback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Philips (00/108) and NWN (00/113) proposals presented in M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CDC7-4B6E-428D-8E9F-964A6E95EF2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C913A5-D79C-4CDE-9F35-8E4EB952D72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Three Overlapping Situations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uation A: ST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not reachable from A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905120" y="2819520"/>
          <a:ext cx="5257800" cy="337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819520"/>
                    <a:ext cx="5257800" cy="33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905120" y="2819520"/>
          <a:ext cx="5257800" cy="337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2819520"/>
                    <a:ext cx="5257800" cy="33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5C4F-1B7C-4C60-9D6F-BFBD4315023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606D8A-4FA2-474F-AD27-25A4E354746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Thee Overlapping Situations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uation B: ST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reachable from A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828800" y="2514600"/>
          <a:ext cx="4724280" cy="39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514600"/>
                    <a:ext cx="4724280" cy="39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1905120" y="2768760"/>
          <a:ext cx="5314680" cy="393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2768760"/>
                    <a:ext cx="5314680" cy="39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49A5-4D96-4942-A257-BF5F1441038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DFA0BE-9241-4556-BD31-BE51C5421F3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Three Overlapping Situations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uation C: both APs are reachable to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905120" y="2533680"/>
          <a:ext cx="5029200" cy="387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533680"/>
                    <a:ext cx="5029200" cy="38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1828800" y="2448000"/>
          <a:ext cx="5029200" cy="3876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2448000"/>
                    <a:ext cx="5029200" cy="38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E811-FE58-4569-A30D-14704DC567D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867E14-E32F-4D20-838D-8EBC1904E31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Recapture of NWN Proposal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ion-Free Burst (CFB) for situation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ement of Clause 9.3.3.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Duration/ID field of CF fr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762120" y="3048120"/>
            <a:ext cx="7619760" cy="2286000"/>
            <a:chOff x="762120" y="3048120"/>
            <a:chExt cx="7619760" cy="2286000"/>
          </a:xfrm>
        </p:grpSpPr>
        <p:sp>
          <p:nvSpPr>
            <p:cNvPr id="70" name=""/>
            <p:cNvSpPr/>
            <p:nvPr/>
          </p:nvSpPr>
          <p:spPr>
            <a:xfrm>
              <a:off x="762120" y="3048120"/>
              <a:ext cx="7619760" cy="228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982800" y="3476520"/>
              <a:ext cx="419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982800" y="3262320"/>
              <a:ext cx="39754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F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982800" y="4977000"/>
              <a:ext cx="2208240" cy="214200"/>
              <a:chOff x="982800" y="4977000"/>
              <a:chExt cx="2208240" cy="214200"/>
            </a:xfrm>
          </p:grpSpPr>
          <p:sp>
            <p:nvSpPr>
              <p:cNvPr id="74" name=""/>
              <p:cNvSpPr/>
              <p:nvPr/>
            </p:nvSpPr>
            <p:spPr>
              <a:xfrm>
                <a:off x="1203480" y="4977000"/>
                <a:ext cx="198756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Beacon or CF-E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982800" y="5012640"/>
                <a:ext cx="220680" cy="142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" name=""/>
            <p:cNvGrpSpPr/>
            <p:nvPr/>
          </p:nvGrpSpPr>
          <p:grpSpPr>
            <a:xfrm>
              <a:off x="2970720" y="4977000"/>
              <a:ext cx="2208240" cy="214200"/>
              <a:chOff x="2970720" y="4977000"/>
              <a:chExt cx="2208240" cy="214200"/>
            </a:xfrm>
          </p:grpSpPr>
          <p:sp>
            <p:nvSpPr>
              <p:cNvPr id="77" name=""/>
              <p:cNvSpPr/>
              <p:nvPr/>
            </p:nvSpPr>
            <p:spPr>
              <a:xfrm>
                <a:off x="3191400" y="4977000"/>
                <a:ext cx="198756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ontention Free Bur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970720" y="5012640"/>
                <a:ext cx="220680" cy="1425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>
              <a:off x="982800" y="3905280"/>
              <a:ext cx="717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82800" y="3619440"/>
              <a:ext cx="220680" cy="285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203480" y="3619440"/>
              <a:ext cx="1214640" cy="28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295880" y="3619440"/>
              <a:ext cx="772920" cy="28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068800" y="3619440"/>
              <a:ext cx="110160" cy="285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387920" y="3619440"/>
              <a:ext cx="220680" cy="285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608960" y="3619440"/>
              <a:ext cx="551880" cy="28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418480" y="3762360"/>
              <a:ext cx="22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5179320" y="4977000"/>
              <a:ext cx="1545840" cy="214200"/>
              <a:chOff x="5179320" y="4977000"/>
              <a:chExt cx="1545840" cy="214200"/>
            </a:xfrm>
          </p:grpSpPr>
          <p:sp>
            <p:nvSpPr>
              <p:cNvPr id="88" name=""/>
              <p:cNvSpPr/>
              <p:nvPr/>
            </p:nvSpPr>
            <p:spPr>
              <a:xfrm>
                <a:off x="5179320" y="5077080"/>
                <a:ext cx="220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sm" type="oval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400000" y="4977000"/>
                <a:ext cx="132516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FB Backof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" name=""/>
            <p:cNvSpPr/>
            <p:nvPr/>
          </p:nvSpPr>
          <p:spPr>
            <a:xfrm>
              <a:off x="982800" y="4762800"/>
              <a:ext cx="717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639520" y="4476960"/>
              <a:ext cx="220680" cy="285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860200" y="4476960"/>
              <a:ext cx="1214640" cy="28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639520" y="3762360"/>
              <a:ext cx="0" cy="85716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418480" y="3619440"/>
              <a:ext cx="0" cy="100008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18480" y="4619880"/>
              <a:ext cx="22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1424520" y="4619880"/>
              <a:ext cx="9936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82800" y="4405320"/>
              <a:ext cx="16563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eferred backof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074840" y="3762360"/>
              <a:ext cx="0" cy="85716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295880" y="3619440"/>
              <a:ext cx="0" cy="100008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639520" y="3762360"/>
              <a:ext cx="14353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295880" y="4619880"/>
              <a:ext cx="8830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179320" y="3476520"/>
              <a:ext cx="0" cy="114300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510520" y="3905280"/>
              <a:ext cx="0" cy="71424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510520" y="4476960"/>
              <a:ext cx="772920" cy="28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83800" y="4476960"/>
              <a:ext cx="110160" cy="285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179320" y="4619880"/>
              <a:ext cx="331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393960" y="3905280"/>
              <a:ext cx="0" cy="57132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639520" y="4334040"/>
              <a:ext cx="375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639520" y="4119480"/>
              <a:ext cx="37544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F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387920" y="3905280"/>
              <a:ext cx="0" cy="85716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82800" y="3476520"/>
              <a:ext cx="0" cy="14256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074840" y="3762360"/>
              <a:ext cx="22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074840" y="4619880"/>
              <a:ext cx="22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82800" y="3190680"/>
              <a:ext cx="9939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SS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82800" y="4048200"/>
              <a:ext cx="9939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SS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393960" y="4119480"/>
              <a:ext cx="99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393960" y="4119480"/>
              <a:ext cx="9939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685800" y="5486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TS/CTS during CFP for situation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ilips proposed the same in M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DBB0-B381-497D-83E7-3B250731023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239F81-EDE3-4545-9651-8480B0B8910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Problems of NWN Proposals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TS/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not update NAV of STAs in overlapping BSSs in C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collision after defer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a CFB, BSSs can end back-off at the sam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nel sharing fair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SS may never grab the channel: blank C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F1B4-37C1-43C5-9E38-583C4CF27C3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6A24BB-1E25-4750-8B7C-BC75DE498B7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Enhanced CFB Mechanism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ping Network Allocation Vector (ONA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channel sensing during CF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nel sharing fair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7898-596A-4F10-8D07-4E673C9EC4B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39B64E-5DDE-4255-8624-AEB334DF9CD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Overlapping NAV (ONAV)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NAV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acy STAs w/ only NA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ed STAs (ESTAs) w/ both NAV and ONA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AV updated w/ same rule for NAV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frames from neighboring BS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 does not transmit/resp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ven with (CF-)ACK and 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ONAV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PC (EPC) will contend for a CF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zero ONAV, even with non-zero NA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E2F6-A68E-4BCD-9A81-BEF47E40CB3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D77633-6F65-401E-B80C-0F7D2E979F8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0T15:04:30Z</dcterms:created>
  <dc:creator>Sunghyun Choi, Philips Research</dc:creator>
  <dc:description>Sunghyun Choi, Philips Research-USA</dc:description>
  <dc:language>en-US</dc:language>
  <cp:lastModifiedBy>Sunghyun Choi</cp:lastModifiedBy>
  <cp:lastPrinted>1998-02-10T13:28:06Z</cp:lastPrinted>
  <dcterms:modified xsi:type="dcterms:W3CDTF">2000-09-20T02:01:01Z</dcterms:modified>
  <cp:revision>136</cp:revision>
  <dc:subject>Submissions</dc:subject>
  <dc:title>Collision Avoidance of IEEE 802.11e MAC in Overlapping BSSs</dc:title>
</cp:coreProperties>
</file>