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F12ED-7D04-48D5-965B-C74ADEA31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924DF-C578-4F1D-897B-B468ECC7E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1A23F-B0D7-4828-9739-6B81E3BEF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071C5-A281-499A-9923-3B4B3D2AE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DB2FB-6644-44C7-AE66-2CAC47395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80734-2859-41E1-AF2F-F900C164D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41319-1940-4B53-A485-37C67F97A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C4C8C-DDFE-4866-9B98-018F6271A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D9D33-6789-4444-9813-C7858E9BA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6ADB1-29D4-4CD4-AB3D-752C91DCA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E0458-CCB5-430D-A342-C5FBEC7C4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9A70E-35EB-4F3A-B0C1-58D74E37E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2286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uly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399360"/>
            <a:ext cx="3124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b O’Hara, et al, 3Com Corpo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657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5EB5B4BF-4B91-4E2E-9E93-6EDD98703C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2286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ctr">
            <a:no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0/163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596160" y="6446880"/>
            <a:ext cx="21600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posal for Extensible Secur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standards.ieee.org/regauth/oui/index.shtml" TargetMode="External"/><Relationship Id="rId2" Type="http://schemas.openxmlformats.org/officeDocument/2006/relationships/hyperlink" Target="http://standards.ieee.org/regauth/ethertype/index.html" TargetMode="External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posal for Extensible Secur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ndardizing for Chan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b O’Ha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bert You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n Nesset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fu Ch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uce Kend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3comlogo" descr=""/>
          <p:cNvPicPr/>
          <p:nvPr/>
        </p:nvPicPr>
        <p:blipFill>
          <a:blip r:embed="rId1"/>
          <a:stretch/>
        </p:blipFill>
        <p:spPr>
          <a:xfrm>
            <a:off x="6400800" y="4876920"/>
            <a:ext cx="2343240" cy="1406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CC7BD-C716-4E20-AA4D-2A9FF27E0A26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rits of Flexi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ndors can adapt quickly to changes in the security environ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tandard does not need to be changed for this reason in the fu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rket can select the “correct”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urages both competition and interoperability within the scope of the stand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F98C0-3355-452E-A624-2F1B93E71332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ffects of Extensible Secur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s the negotiation before authentication exchan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rst authentication frame stays the s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s new algorithm number for extensible secur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nges basic format of Authentication fra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s new information element to second and third authentication fra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ows independence of choice for all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des significantly greater identifier sp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gorithm values are assigned independently to each O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08AFF-CC40-44A6-964B-23A52EBFC505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ommend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opt the text in document 00/163 to define the Extensible Security algorithm, frame exchanges and Security Negotiation information el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e a registration proce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istrant must have an IEEE-assigned O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 algorithm and handshake protocol details must be provided, including external references (if an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exchange for providing registration services, IEEE gets right to publish details (preferably on web si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lude a pointer to the registration web site in the stand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FAC43-6C1E-4DD4-A598-C9E9D6F4B74E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gistration Require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e a registration process that allows anyone to petition the IEEE for a new value to be used in this fie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ctly the same as the process used for OUI and Ethertype regist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e </a:t>
            </a:r>
            <a:r>
              <a:rPr b="0" lang="en-US" sz="1800" spc="-1" strike="noStrike" u="sng">
                <a:solidFill>
                  <a:srgbClr val="0000cc"/>
                </a:solidFill>
                <a:uFillTx/>
                <a:latin typeface="Times New Roman"/>
                <a:hlinkClick r:id="rId1"/>
              </a:rPr>
              <a:t>http://standards.ieee.org/regauth/oui/index.shtml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 and </a:t>
            </a:r>
            <a:r>
              <a:rPr b="0" lang="en-US" sz="1800" spc="-1" strike="noStrike" u="sng">
                <a:solidFill>
                  <a:srgbClr val="0000cc"/>
                </a:solidFill>
                <a:uFillTx/>
                <a:latin typeface="Times New Roman"/>
                <a:hlinkClick r:id="rId2"/>
              </a:rPr>
              <a:t>http://standards.ieee.org/regauth/ethertype/index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 full disclosure of information to enable multi-vendor interoper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C5D39-E924-413C-B503-F00FB9F129C7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cedural Stuf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rite a proposal to IEEE Registration Authority Committ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is to be register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should it be register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special procedures are need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xt RAC meeting is at this plen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k with IEEE staff to implement the proced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B2ADB-B9D6-4F88-8B3B-375483FB63C9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ditional Recommend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lect one (or no more than two) algorithms for each algorithm ty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ister the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sh the registration information (OUI and algorithm number) in the stand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quire that the selected algorithms be implemented if the negotiated security option is implemen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provides an immediate base for interoper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BE6AE-C7F0-46DB-971B-AD453634923A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ork To Be Do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dentify algorithms to be included in the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 PICS upd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MIB stuff neede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5E90D-582D-4779-B0B0-36F16A9E0CA8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ndardize for Chan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ndardize a mechanism based on negotiation, rather than fixed requirements in the stand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ow for ongoing adaptability and innov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de processes that encourage/enforce exchange of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de one (or two) starting points using the new mechanis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56D6D-0D95-460D-AF3A-3B366C868364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ensible Secur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onal enhancement of security for 802.11 devi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ree frames exchanged during negoti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cedes actual authentication, but is part of authentication frame exchan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thentication fails unless successful security negotiation is comple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3CD93-4795-47C5-911B-E435A008A8A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gotiation Fram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ame 1 (requester to respond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entity asser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quest for authentication (algorithm = 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ame 2 (responder to reques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entity asser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st of acceptable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ame 3 (requester to respond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st of accepted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7364C-6BFA-4A76-A99A-702A5EAA22E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gotiated Algorith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y validity peri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va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y establish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ssage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b-key deriv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3AA3D-43BD-4916-B6FB-7B6365EC9CF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ecurity Negotiation Information Ele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90720" y="1828800"/>
            <a:ext cx="7313040" cy="4579920"/>
            <a:chOff x="990720" y="1828800"/>
            <a:chExt cx="7313040" cy="4579920"/>
          </a:xfrm>
        </p:grpSpPr>
        <p:grpSp>
          <p:nvGrpSpPr>
            <p:cNvPr id="58" name=""/>
            <p:cNvGrpSpPr/>
            <p:nvPr/>
          </p:nvGrpSpPr>
          <p:grpSpPr>
            <a:xfrm>
              <a:off x="999360" y="1830600"/>
              <a:ext cx="7294320" cy="4575960"/>
              <a:chOff x="999360" y="1830600"/>
              <a:chExt cx="7294320" cy="4575960"/>
            </a:xfrm>
          </p:grpSpPr>
          <p:grpSp>
            <p:nvGrpSpPr>
              <p:cNvPr id="59" name=""/>
              <p:cNvGrpSpPr/>
              <p:nvPr/>
            </p:nvGrpSpPr>
            <p:grpSpPr>
              <a:xfrm>
                <a:off x="999360" y="1830600"/>
                <a:ext cx="3646800" cy="254160"/>
                <a:chOff x="999360" y="1830600"/>
                <a:chExt cx="3646800" cy="254160"/>
              </a:xfrm>
            </p:grpSpPr>
            <p:sp>
              <p:nvSpPr>
                <p:cNvPr id="60" name=""/>
                <p:cNvSpPr/>
                <p:nvPr/>
              </p:nvSpPr>
              <p:spPr>
                <a:xfrm>
                  <a:off x="1126080" y="1830600"/>
                  <a:ext cx="3393360" cy="254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Element I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>
                  <a:off x="999360" y="1830600"/>
                  <a:ext cx="3646800" cy="254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" name=""/>
              <p:cNvGrpSpPr/>
              <p:nvPr/>
            </p:nvGrpSpPr>
            <p:grpSpPr>
              <a:xfrm>
                <a:off x="4646520" y="1830600"/>
                <a:ext cx="3646800" cy="254160"/>
                <a:chOff x="4646520" y="1830600"/>
                <a:chExt cx="3646800" cy="254160"/>
              </a:xfrm>
            </p:grpSpPr>
            <p:sp>
              <p:nvSpPr>
                <p:cNvPr id="63" name=""/>
                <p:cNvSpPr/>
                <p:nvPr/>
              </p:nvSpPr>
              <p:spPr>
                <a:xfrm>
                  <a:off x="4773240" y="1830600"/>
                  <a:ext cx="3393360" cy="254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Length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4646520" y="1830600"/>
                  <a:ext cx="3646800" cy="254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" name=""/>
              <p:cNvGrpSpPr/>
              <p:nvPr/>
            </p:nvGrpSpPr>
            <p:grpSpPr>
              <a:xfrm>
                <a:off x="999360" y="2084760"/>
                <a:ext cx="7294320" cy="254160"/>
                <a:chOff x="999360" y="2084760"/>
                <a:chExt cx="7294320" cy="254160"/>
              </a:xfrm>
            </p:grpSpPr>
            <p:sp>
              <p:nvSpPr>
                <p:cNvPr id="66" name=""/>
                <p:cNvSpPr/>
                <p:nvPr/>
              </p:nvSpPr>
              <p:spPr>
                <a:xfrm>
                  <a:off x="1126080" y="2084760"/>
                  <a:ext cx="7040880" cy="254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Key Validity Perio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"/>
                <p:cNvSpPr/>
                <p:nvPr/>
              </p:nvSpPr>
              <p:spPr>
                <a:xfrm>
                  <a:off x="999360" y="2084760"/>
                  <a:ext cx="7294320" cy="254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" name=""/>
              <p:cNvGrpSpPr/>
              <p:nvPr/>
            </p:nvGrpSpPr>
            <p:grpSpPr>
              <a:xfrm>
                <a:off x="999360" y="2338920"/>
                <a:ext cx="3646800" cy="254160"/>
                <a:chOff x="999360" y="2338920"/>
                <a:chExt cx="3646800" cy="254160"/>
              </a:xfrm>
            </p:grpSpPr>
            <p:sp>
              <p:nvSpPr>
                <p:cNvPr id="69" name=""/>
                <p:cNvSpPr/>
                <p:nvPr/>
              </p:nvSpPr>
              <p:spPr>
                <a:xfrm>
                  <a:off x="1126080" y="2338920"/>
                  <a:ext cx="3393360" cy="254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Registering OUI A (2)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>
                  <a:off x="999360" y="2338920"/>
                  <a:ext cx="3646800" cy="254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" name=""/>
              <p:cNvGrpSpPr/>
              <p:nvPr/>
            </p:nvGrpSpPr>
            <p:grpSpPr>
              <a:xfrm>
                <a:off x="4646520" y="2338920"/>
                <a:ext cx="3646800" cy="254160"/>
                <a:chOff x="4646520" y="2338920"/>
                <a:chExt cx="3646800" cy="254160"/>
              </a:xfrm>
            </p:grpSpPr>
            <p:sp>
              <p:nvSpPr>
                <p:cNvPr id="72" name=""/>
                <p:cNvSpPr/>
                <p:nvPr/>
              </p:nvSpPr>
              <p:spPr>
                <a:xfrm>
                  <a:off x="4773240" y="2338920"/>
                  <a:ext cx="3393360" cy="254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Registering OUI A (1)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"/>
                <p:cNvSpPr/>
                <p:nvPr/>
              </p:nvSpPr>
              <p:spPr>
                <a:xfrm>
                  <a:off x="4646520" y="2338920"/>
                  <a:ext cx="3646800" cy="254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" name=""/>
              <p:cNvGrpSpPr/>
              <p:nvPr/>
            </p:nvGrpSpPr>
            <p:grpSpPr>
              <a:xfrm>
                <a:off x="999360" y="2593080"/>
                <a:ext cx="3646800" cy="254160"/>
                <a:chOff x="999360" y="2593080"/>
                <a:chExt cx="3646800" cy="254160"/>
              </a:xfrm>
            </p:grpSpPr>
            <p:sp>
              <p:nvSpPr>
                <p:cNvPr id="75" name=""/>
                <p:cNvSpPr/>
                <p:nvPr/>
              </p:nvSpPr>
              <p:spPr>
                <a:xfrm>
                  <a:off x="1126080" y="2593080"/>
                  <a:ext cx="3393360" cy="254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Registering OUI A (0)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>
                  <a:off x="999360" y="2593080"/>
                  <a:ext cx="3646800" cy="254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" name=""/>
              <p:cNvGrpSpPr/>
              <p:nvPr/>
            </p:nvGrpSpPr>
            <p:grpSpPr>
              <a:xfrm>
                <a:off x="4646520" y="2593080"/>
                <a:ext cx="3646800" cy="254160"/>
                <a:chOff x="4646520" y="2593080"/>
                <a:chExt cx="3646800" cy="254160"/>
              </a:xfrm>
            </p:grpSpPr>
            <p:sp>
              <p:nvSpPr>
                <p:cNvPr id="78" name=""/>
                <p:cNvSpPr/>
                <p:nvPr/>
              </p:nvSpPr>
              <p:spPr>
                <a:xfrm>
                  <a:off x="4773240" y="2593080"/>
                  <a:ext cx="3393360" cy="254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Indicator 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>
                  <a:off x="4646520" y="2593080"/>
                  <a:ext cx="3646800" cy="254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" name=""/>
              <p:cNvGrpSpPr/>
              <p:nvPr/>
            </p:nvGrpSpPr>
            <p:grpSpPr>
              <a:xfrm>
                <a:off x="999360" y="2847240"/>
                <a:ext cx="7294320" cy="254160"/>
                <a:chOff x="999360" y="2847240"/>
                <a:chExt cx="7294320" cy="254160"/>
              </a:xfrm>
            </p:grpSpPr>
            <p:sp>
              <p:nvSpPr>
                <p:cNvPr id="81" name=""/>
                <p:cNvSpPr/>
                <p:nvPr/>
              </p:nvSpPr>
              <p:spPr>
                <a:xfrm>
                  <a:off x="1126080" y="2847240"/>
                  <a:ext cx="7040880" cy="254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Authentication Algorithm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" name=""/>
                <p:cNvSpPr/>
                <p:nvPr/>
              </p:nvSpPr>
              <p:spPr>
                <a:xfrm>
                  <a:off x="999360" y="2847240"/>
                  <a:ext cx="7294320" cy="254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3" name=""/>
              <p:cNvGrpSpPr/>
              <p:nvPr/>
            </p:nvGrpSpPr>
            <p:grpSpPr>
              <a:xfrm>
                <a:off x="999360" y="3101760"/>
                <a:ext cx="3646800" cy="254160"/>
                <a:chOff x="999360" y="3101760"/>
                <a:chExt cx="3646800" cy="254160"/>
              </a:xfrm>
            </p:grpSpPr>
            <p:sp>
              <p:nvSpPr>
                <p:cNvPr id="84" name=""/>
                <p:cNvSpPr/>
                <p:nvPr/>
              </p:nvSpPr>
              <p:spPr>
                <a:xfrm>
                  <a:off x="1126080" y="3101760"/>
                  <a:ext cx="3393360" cy="254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Registering OUI P (2)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>
                  <a:off x="999360" y="3101760"/>
                  <a:ext cx="3646800" cy="254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6" name=""/>
              <p:cNvGrpSpPr/>
              <p:nvPr/>
            </p:nvGrpSpPr>
            <p:grpSpPr>
              <a:xfrm>
                <a:off x="4646520" y="3101760"/>
                <a:ext cx="3646800" cy="254160"/>
                <a:chOff x="4646520" y="3101760"/>
                <a:chExt cx="3646800" cy="254160"/>
              </a:xfrm>
            </p:grpSpPr>
            <p:sp>
              <p:nvSpPr>
                <p:cNvPr id="87" name=""/>
                <p:cNvSpPr/>
                <p:nvPr/>
              </p:nvSpPr>
              <p:spPr>
                <a:xfrm>
                  <a:off x="4773240" y="3101760"/>
                  <a:ext cx="3393360" cy="254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Registering OUI P (1)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>
                  <a:off x="4646520" y="3101760"/>
                  <a:ext cx="3646800" cy="254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" name=""/>
              <p:cNvGrpSpPr/>
              <p:nvPr/>
            </p:nvGrpSpPr>
            <p:grpSpPr>
              <a:xfrm>
                <a:off x="999360" y="3355920"/>
                <a:ext cx="3646800" cy="254160"/>
                <a:chOff x="999360" y="3355920"/>
                <a:chExt cx="3646800" cy="254160"/>
              </a:xfrm>
            </p:grpSpPr>
            <p:sp>
              <p:nvSpPr>
                <p:cNvPr id="90" name=""/>
                <p:cNvSpPr/>
                <p:nvPr/>
              </p:nvSpPr>
              <p:spPr>
                <a:xfrm>
                  <a:off x="1126080" y="3355920"/>
                  <a:ext cx="3393360" cy="254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Registering OUI P (0)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999360" y="3355920"/>
                  <a:ext cx="3646800" cy="254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2" name=""/>
              <p:cNvGrpSpPr/>
              <p:nvPr/>
            </p:nvGrpSpPr>
            <p:grpSpPr>
              <a:xfrm>
                <a:off x="4646520" y="3355920"/>
                <a:ext cx="3646800" cy="254160"/>
                <a:chOff x="4646520" y="3355920"/>
                <a:chExt cx="3646800" cy="254160"/>
              </a:xfrm>
            </p:grpSpPr>
            <p:sp>
              <p:nvSpPr>
                <p:cNvPr id="93" name=""/>
                <p:cNvSpPr/>
                <p:nvPr/>
              </p:nvSpPr>
              <p:spPr>
                <a:xfrm>
                  <a:off x="4773240" y="3355920"/>
                  <a:ext cx="3393360" cy="254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Indicator P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4646520" y="3355920"/>
                  <a:ext cx="3646800" cy="254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" name=""/>
              <p:cNvGrpSpPr/>
              <p:nvPr/>
            </p:nvGrpSpPr>
            <p:grpSpPr>
              <a:xfrm>
                <a:off x="999360" y="3610080"/>
                <a:ext cx="7294320" cy="254160"/>
                <a:chOff x="999360" y="3610080"/>
                <a:chExt cx="7294320" cy="254160"/>
              </a:xfrm>
            </p:grpSpPr>
            <p:sp>
              <p:nvSpPr>
                <p:cNvPr id="96" name=""/>
                <p:cNvSpPr/>
                <p:nvPr/>
              </p:nvSpPr>
              <p:spPr>
                <a:xfrm>
                  <a:off x="1126080" y="3610080"/>
                  <a:ext cx="7040880" cy="254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Privacy Algorithm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>
                  <a:off x="999360" y="3610080"/>
                  <a:ext cx="7294320" cy="254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" name=""/>
              <p:cNvGrpSpPr/>
              <p:nvPr/>
            </p:nvGrpSpPr>
            <p:grpSpPr>
              <a:xfrm>
                <a:off x="999360" y="3864240"/>
                <a:ext cx="3646800" cy="254160"/>
                <a:chOff x="999360" y="3864240"/>
                <a:chExt cx="3646800" cy="25416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126080" y="3864240"/>
                  <a:ext cx="3393360" cy="254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Registering OUI K (2)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999360" y="3864240"/>
                  <a:ext cx="3646800" cy="254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1" name=""/>
              <p:cNvGrpSpPr/>
              <p:nvPr/>
            </p:nvGrpSpPr>
            <p:grpSpPr>
              <a:xfrm>
                <a:off x="4646520" y="3864240"/>
                <a:ext cx="3646800" cy="254160"/>
                <a:chOff x="4646520" y="3864240"/>
                <a:chExt cx="3646800" cy="254160"/>
              </a:xfrm>
            </p:grpSpPr>
            <p:sp>
              <p:nvSpPr>
                <p:cNvPr id="102" name=""/>
                <p:cNvSpPr/>
                <p:nvPr/>
              </p:nvSpPr>
              <p:spPr>
                <a:xfrm>
                  <a:off x="4773240" y="3864240"/>
                  <a:ext cx="3393360" cy="254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Registering OUI K (1)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4646520" y="3864240"/>
                  <a:ext cx="3646800" cy="254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4" name=""/>
              <p:cNvGrpSpPr/>
              <p:nvPr/>
            </p:nvGrpSpPr>
            <p:grpSpPr>
              <a:xfrm>
                <a:off x="999360" y="4118400"/>
                <a:ext cx="3646800" cy="254160"/>
                <a:chOff x="999360" y="4118400"/>
                <a:chExt cx="3646800" cy="254160"/>
              </a:xfrm>
            </p:grpSpPr>
            <p:sp>
              <p:nvSpPr>
                <p:cNvPr id="105" name=""/>
                <p:cNvSpPr/>
                <p:nvPr/>
              </p:nvSpPr>
              <p:spPr>
                <a:xfrm>
                  <a:off x="1126080" y="4118400"/>
                  <a:ext cx="3393360" cy="254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Registering OUI K (0)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999360" y="4118400"/>
                  <a:ext cx="3646800" cy="254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7" name=""/>
              <p:cNvGrpSpPr/>
              <p:nvPr/>
            </p:nvGrpSpPr>
            <p:grpSpPr>
              <a:xfrm>
                <a:off x="4646520" y="4118400"/>
                <a:ext cx="3646800" cy="254160"/>
                <a:chOff x="4646520" y="4118400"/>
                <a:chExt cx="3646800" cy="254160"/>
              </a:xfrm>
            </p:grpSpPr>
            <p:sp>
              <p:nvSpPr>
                <p:cNvPr id="108" name=""/>
                <p:cNvSpPr/>
                <p:nvPr/>
              </p:nvSpPr>
              <p:spPr>
                <a:xfrm>
                  <a:off x="4773240" y="4118400"/>
                  <a:ext cx="3393360" cy="254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Indicator 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4646520" y="4118400"/>
                  <a:ext cx="3646800" cy="254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" name=""/>
              <p:cNvGrpSpPr/>
              <p:nvPr/>
            </p:nvGrpSpPr>
            <p:grpSpPr>
              <a:xfrm>
                <a:off x="999360" y="4372560"/>
                <a:ext cx="7294320" cy="254160"/>
                <a:chOff x="999360" y="4372560"/>
                <a:chExt cx="7294320" cy="254160"/>
              </a:xfrm>
            </p:grpSpPr>
            <p:sp>
              <p:nvSpPr>
                <p:cNvPr id="111" name=""/>
                <p:cNvSpPr/>
                <p:nvPr/>
              </p:nvSpPr>
              <p:spPr>
                <a:xfrm>
                  <a:off x="1126080" y="4372560"/>
                  <a:ext cx="7040880" cy="254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Key Establishment Algorithm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999360" y="4372560"/>
                  <a:ext cx="7294320" cy="254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" name=""/>
              <p:cNvGrpSpPr/>
              <p:nvPr/>
            </p:nvGrpSpPr>
            <p:grpSpPr>
              <a:xfrm>
                <a:off x="999360" y="4627080"/>
                <a:ext cx="3646800" cy="254160"/>
                <a:chOff x="999360" y="4627080"/>
                <a:chExt cx="3646800" cy="25416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1126080" y="4627080"/>
                  <a:ext cx="3393360" cy="254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Registering OUI M (2)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9360" y="4627080"/>
                  <a:ext cx="3646800" cy="254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4646520" y="4627080"/>
                <a:ext cx="3646800" cy="254160"/>
                <a:chOff x="4646520" y="4627080"/>
                <a:chExt cx="3646800" cy="25416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4773240" y="4627080"/>
                  <a:ext cx="3393360" cy="254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Registering OUI M (1)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4646520" y="4627080"/>
                  <a:ext cx="3646800" cy="254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9" name=""/>
              <p:cNvGrpSpPr/>
              <p:nvPr/>
            </p:nvGrpSpPr>
            <p:grpSpPr>
              <a:xfrm>
                <a:off x="999360" y="4881240"/>
                <a:ext cx="3646800" cy="254160"/>
                <a:chOff x="999360" y="4881240"/>
                <a:chExt cx="3646800" cy="254160"/>
              </a:xfrm>
            </p:grpSpPr>
            <p:sp>
              <p:nvSpPr>
                <p:cNvPr id="120" name=""/>
                <p:cNvSpPr/>
                <p:nvPr/>
              </p:nvSpPr>
              <p:spPr>
                <a:xfrm>
                  <a:off x="1126080" y="4881240"/>
                  <a:ext cx="3393360" cy="254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Registering OUI M (0)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999360" y="4881240"/>
                  <a:ext cx="3646800" cy="254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2" name=""/>
              <p:cNvGrpSpPr/>
              <p:nvPr/>
            </p:nvGrpSpPr>
            <p:grpSpPr>
              <a:xfrm>
                <a:off x="4646520" y="4881240"/>
                <a:ext cx="3646800" cy="254160"/>
                <a:chOff x="4646520" y="4881240"/>
                <a:chExt cx="3646800" cy="254160"/>
              </a:xfrm>
            </p:grpSpPr>
            <p:sp>
              <p:nvSpPr>
                <p:cNvPr id="123" name=""/>
                <p:cNvSpPr/>
                <p:nvPr/>
              </p:nvSpPr>
              <p:spPr>
                <a:xfrm>
                  <a:off x="4773240" y="4881240"/>
                  <a:ext cx="3393360" cy="254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Indicator M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4646520" y="4881240"/>
                  <a:ext cx="3646800" cy="254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5" name=""/>
              <p:cNvGrpSpPr/>
              <p:nvPr/>
            </p:nvGrpSpPr>
            <p:grpSpPr>
              <a:xfrm>
                <a:off x="999360" y="5135400"/>
                <a:ext cx="7294320" cy="254160"/>
                <a:chOff x="999360" y="5135400"/>
                <a:chExt cx="7294320" cy="254160"/>
              </a:xfrm>
            </p:grpSpPr>
            <p:sp>
              <p:nvSpPr>
                <p:cNvPr id="126" name=""/>
                <p:cNvSpPr/>
                <p:nvPr/>
              </p:nvSpPr>
              <p:spPr>
                <a:xfrm>
                  <a:off x="1126080" y="5135400"/>
                  <a:ext cx="7040880" cy="254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Message Authentication Algorithm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999360" y="5135400"/>
                  <a:ext cx="7294320" cy="254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8" name=""/>
              <p:cNvGrpSpPr/>
              <p:nvPr/>
            </p:nvGrpSpPr>
            <p:grpSpPr>
              <a:xfrm>
                <a:off x="999360" y="5389560"/>
                <a:ext cx="3646800" cy="254160"/>
                <a:chOff x="999360" y="5389560"/>
                <a:chExt cx="3646800" cy="254160"/>
              </a:xfrm>
            </p:grpSpPr>
            <p:sp>
              <p:nvSpPr>
                <p:cNvPr id="129" name=""/>
                <p:cNvSpPr/>
                <p:nvPr/>
              </p:nvSpPr>
              <p:spPr>
                <a:xfrm>
                  <a:off x="1126080" y="5389560"/>
                  <a:ext cx="3393360" cy="254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Registering OUI S (2)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99360" y="5389560"/>
                  <a:ext cx="3646800" cy="254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" name=""/>
              <p:cNvGrpSpPr/>
              <p:nvPr/>
            </p:nvGrpSpPr>
            <p:grpSpPr>
              <a:xfrm>
                <a:off x="4646520" y="5389560"/>
                <a:ext cx="3646800" cy="254160"/>
                <a:chOff x="4646520" y="5389560"/>
                <a:chExt cx="3646800" cy="254160"/>
              </a:xfrm>
            </p:grpSpPr>
            <p:sp>
              <p:nvSpPr>
                <p:cNvPr id="132" name=""/>
                <p:cNvSpPr/>
                <p:nvPr/>
              </p:nvSpPr>
              <p:spPr>
                <a:xfrm>
                  <a:off x="4773240" y="5389560"/>
                  <a:ext cx="3393360" cy="254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Registering OUI S (1)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4646520" y="5389560"/>
                  <a:ext cx="3646800" cy="254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4" name=""/>
              <p:cNvGrpSpPr/>
              <p:nvPr/>
            </p:nvGrpSpPr>
            <p:grpSpPr>
              <a:xfrm>
                <a:off x="999360" y="5643720"/>
                <a:ext cx="3646800" cy="254160"/>
                <a:chOff x="999360" y="5643720"/>
                <a:chExt cx="3646800" cy="25416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1126080" y="5643720"/>
                  <a:ext cx="3393360" cy="254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Registering OUI S (0)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999360" y="5643720"/>
                  <a:ext cx="3646800" cy="254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7" name=""/>
              <p:cNvGrpSpPr/>
              <p:nvPr/>
            </p:nvGrpSpPr>
            <p:grpSpPr>
              <a:xfrm>
                <a:off x="4646520" y="5643720"/>
                <a:ext cx="3646800" cy="254160"/>
                <a:chOff x="4646520" y="5643720"/>
                <a:chExt cx="3646800" cy="254160"/>
              </a:xfrm>
            </p:grpSpPr>
            <p:sp>
              <p:nvSpPr>
                <p:cNvPr id="138" name=""/>
                <p:cNvSpPr/>
                <p:nvPr/>
              </p:nvSpPr>
              <p:spPr>
                <a:xfrm>
                  <a:off x="4773240" y="5643720"/>
                  <a:ext cx="3393360" cy="254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Indicator 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4646520" y="5643720"/>
                  <a:ext cx="3646800" cy="254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0" name=""/>
              <p:cNvGrpSpPr/>
              <p:nvPr/>
            </p:nvGrpSpPr>
            <p:grpSpPr>
              <a:xfrm>
                <a:off x="999360" y="5898240"/>
                <a:ext cx="7294320" cy="254160"/>
                <a:chOff x="999360" y="5898240"/>
                <a:chExt cx="7294320" cy="25416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1126080" y="5898240"/>
                  <a:ext cx="7040880" cy="254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Sub-key Derivation Algorithm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999360" y="5898240"/>
                  <a:ext cx="7294320" cy="254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3" name=""/>
              <p:cNvGrpSpPr/>
              <p:nvPr/>
            </p:nvGrpSpPr>
            <p:grpSpPr>
              <a:xfrm>
                <a:off x="999360" y="6152400"/>
                <a:ext cx="7294320" cy="254160"/>
                <a:chOff x="999360" y="6152400"/>
                <a:chExt cx="7294320" cy="254160"/>
              </a:xfrm>
            </p:grpSpPr>
            <p:sp>
              <p:nvSpPr>
                <p:cNvPr id="144" name=""/>
                <p:cNvSpPr/>
                <p:nvPr/>
              </p:nvSpPr>
              <p:spPr>
                <a:xfrm>
                  <a:off x="1126080" y="6152400"/>
                  <a:ext cx="7040880" cy="254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… 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999360" y="6152400"/>
                  <a:ext cx="7294320" cy="254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46" name=""/>
            <p:cNvSpPr/>
            <p:nvPr/>
          </p:nvSpPr>
          <p:spPr>
            <a:xfrm>
              <a:off x="990720" y="1828800"/>
              <a:ext cx="7313040" cy="457992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49E01-1FE0-4417-ABFE-AAAF6E067AED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dicator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t 7: Prefer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t 6: Depreca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t 5: Reserv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t 4: Authent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t 3: Priva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t 2: Key Establish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t 1: Message Integ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t 0: Sub-key Deriv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1FE0B-D31D-443F-A700-6BEAEFA4190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ation Element Detai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ponder send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imum acceptable key validity peri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acceptable algorithms, at least one of each 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mark algorithms “preferred” and “deprecated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quester se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y validity period no greater than that sent by respo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st of accepted algorithms, only one of each 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ECF6E-EF30-4468-81FA-6C1014E33DBF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ccess or Fail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 each step of the negotiation, success or failure is indicated in the status code fie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ust as in current authentication ex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r can refuse to use negotiated security in fram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ester can refuse the offered algorithms in frame 3 (if one or more of the algorithm types does not have an acceptable choic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r can refuse requester’s choices in the first frame of the subsequent authentication handshake (frame 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505C4-DB05-479F-B5A4-D2AE8953031C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05T13:03:53Z</dcterms:created>
  <dc:creator>Bob O'Hara</dc:creator>
  <dc:description/>
  <dc:language>en-US</dc:language>
  <cp:lastModifiedBy>Bob O'Hara</cp:lastModifiedBy>
  <cp:lastPrinted>1998-02-10T13:28:06Z</cp:lastPrinted>
  <dcterms:modified xsi:type="dcterms:W3CDTF">2000-07-10T23:05:19Z</dcterms:modified>
  <cp:revision>53</cp:revision>
  <dc:subject/>
  <dc:title>00/163a Proposal for Extensible Security</dc:title>
</cp:coreProperties>
</file>