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004-DE93-4190-9AA2-3222F261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848-DC56-42DC-8209-2E6B1907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AF1-F623-4868-9E18-6FEF7992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8C9-5997-408F-B0DE-C493DF6E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E03-9FD0-4B30-B621-716D27F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B3B-DF56-4F49-A17E-49D61B81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245-5E86-482B-911A-E565F89E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48D-B6A5-42B8-A4B5-26F8903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84F-3E9A-4534-A94B-A104E70A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111-84C7-411E-A8E6-977E528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104-B1AD-48E9-B666-2E68171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178-7D87-49E1-A559-0FBC4D1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A4C34A-345A-4A37-968A-5806AFE76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6446880"/>
            <a:ext cx="202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F Enhancements and CF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PCF Enhancements and Contention Free Bur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ire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0A2-5204-4A17-A9AE-85B2ACCE851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Defici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ssues limit the use of the PCF for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9.3.4 and specifically clause 9.3.4.1 imposes strict rules upon the order in which stations are addressed or p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mechanism (other than the More-Data bit) that allows a station to communicate its queue state(s) to the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927-9F6B-4AFA-BC3F-DA0532200F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order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uration/ID field for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x time of next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amble time + frame size / b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ggy-backed on each To-DS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can explicitly poll for update by sending Nul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CF1-482E-4AF1-B640-B3DA78A156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ion Free Bursts (CFB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solve following PCF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ed CFP under average l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ing BSS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CFP needs to be one uninterrupted sequence of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solve this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the PC to relinquish medium control to other BSSs in the sam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can temporarily give-up medium control and defer control until new frames are available for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46B-E678-4F2A-9918-5A23BE6807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ed CF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9.3.3 transfer procedures apply within C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Bs have a maximum duration of CFBMax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duration is encoded in all From-DS data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off procedure between CF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1752480"/>
            <a:ext cx="7543800" cy="1828800"/>
            <a:chOff x="762120" y="1752480"/>
            <a:chExt cx="7543800" cy="1828800"/>
          </a:xfrm>
        </p:grpSpPr>
        <p:sp>
          <p:nvSpPr>
            <p:cNvPr id="73" name=""/>
            <p:cNvSpPr/>
            <p:nvPr/>
          </p:nvSpPr>
          <p:spPr>
            <a:xfrm>
              <a:off x="762120" y="1752480"/>
              <a:ext cx="75438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980640" y="1752480"/>
              <a:ext cx="3935880" cy="288720"/>
              <a:chOff x="980640" y="1752480"/>
              <a:chExt cx="3935880" cy="288720"/>
            </a:xfrm>
          </p:grpSpPr>
          <p:sp>
            <p:nvSpPr>
              <p:cNvPr id="75" name=""/>
              <p:cNvSpPr/>
              <p:nvPr/>
            </p:nvSpPr>
            <p:spPr>
              <a:xfrm>
                <a:off x="980640" y="2041200"/>
                <a:ext cx="39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80640" y="1752480"/>
                <a:ext cx="39358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980640" y="2811240"/>
              <a:ext cx="5029200" cy="288720"/>
              <a:chOff x="980640" y="2811240"/>
              <a:chExt cx="5029200" cy="288720"/>
            </a:xfrm>
          </p:grpSpPr>
          <p:sp>
            <p:nvSpPr>
              <p:cNvPr id="78" name=""/>
              <p:cNvSpPr/>
              <p:nvPr/>
            </p:nvSpPr>
            <p:spPr>
              <a:xfrm>
                <a:off x="980640" y="281124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80640" y="2811240"/>
                <a:ext cx="502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Peri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980640" y="3186720"/>
              <a:ext cx="2186280" cy="288360"/>
              <a:chOff x="980640" y="3186720"/>
              <a:chExt cx="2186280" cy="288360"/>
            </a:xfrm>
          </p:grpSpPr>
          <p:sp>
            <p:nvSpPr>
              <p:cNvPr id="81" name=""/>
              <p:cNvSpPr/>
              <p:nvPr/>
            </p:nvSpPr>
            <p:spPr>
              <a:xfrm>
                <a:off x="1199160" y="3186720"/>
                <a:ext cx="1967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80640" y="3234600"/>
                <a:ext cx="218520" cy="192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948400" y="3186720"/>
              <a:ext cx="2186280" cy="288360"/>
              <a:chOff x="2948400" y="3186720"/>
              <a:chExt cx="2186280" cy="288360"/>
            </a:xfrm>
          </p:grpSpPr>
          <p:sp>
            <p:nvSpPr>
              <p:cNvPr id="84" name=""/>
              <p:cNvSpPr/>
              <p:nvPr/>
            </p:nvSpPr>
            <p:spPr>
              <a:xfrm>
                <a:off x="3166920" y="3186720"/>
                <a:ext cx="1967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48400" y="3234600"/>
                <a:ext cx="218520" cy="19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916520" y="1752480"/>
              <a:ext cx="1093320" cy="288720"/>
              <a:chOff x="4916520" y="1752480"/>
              <a:chExt cx="1093320" cy="288720"/>
            </a:xfrm>
          </p:grpSpPr>
          <p:sp>
            <p:nvSpPr>
              <p:cNvPr id="87" name=""/>
              <p:cNvSpPr/>
              <p:nvPr/>
            </p:nvSpPr>
            <p:spPr>
              <a:xfrm>
                <a:off x="4916520" y="2041200"/>
                <a:ext cx="10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16520" y="1752480"/>
                <a:ext cx="10933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980640" y="2233440"/>
              <a:ext cx="7106400" cy="384840"/>
              <a:chOff x="980640" y="2233440"/>
              <a:chExt cx="7106400" cy="384840"/>
            </a:xfrm>
          </p:grpSpPr>
          <p:sp>
            <p:nvSpPr>
              <p:cNvPr id="90" name=""/>
              <p:cNvSpPr/>
              <p:nvPr/>
            </p:nvSpPr>
            <p:spPr>
              <a:xfrm>
                <a:off x="980640" y="2618280"/>
                <a:ext cx="710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80640" y="2233440"/>
                <a:ext cx="21852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99160" y="2233440"/>
                <a:ext cx="12024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20440" y="2233440"/>
                <a:ext cx="109296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41720" y="2233440"/>
                <a:ext cx="7650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07080" y="2233440"/>
                <a:ext cx="10908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09840" y="2233440"/>
                <a:ext cx="21852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28360" y="2233440"/>
                <a:ext cx="12024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540200" y="2233440"/>
                <a:ext cx="54648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01560" y="242604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3760" y="2426040"/>
                <a:ext cx="32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135400" y="3186720"/>
              <a:ext cx="1530360" cy="288360"/>
              <a:chOff x="5135400" y="3186720"/>
              <a:chExt cx="1530360" cy="288360"/>
            </a:xfrm>
          </p:grpSpPr>
          <p:sp>
            <p:nvSpPr>
              <p:cNvPr id="102" name=""/>
              <p:cNvSpPr/>
              <p:nvPr/>
            </p:nvSpPr>
            <p:spPr>
              <a:xfrm>
                <a:off x="5135400" y="332136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53920" y="3186720"/>
                <a:ext cx="13118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4A8-C16D-4FCF-A261-F7909B7B2D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ion between P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restriction of NAV settings based on CFPDurRemaing in Beacon for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contend to start a CF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cy APs and stations don’t interfere because CF-con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Bs are protected through duration field in From-DS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2120" y="1447920"/>
            <a:ext cx="7619760" cy="2286000"/>
            <a:chOff x="762120" y="1447920"/>
            <a:chExt cx="7619760" cy="2286000"/>
          </a:xfrm>
        </p:grpSpPr>
        <p:sp>
          <p:nvSpPr>
            <p:cNvPr id="107" name=""/>
            <p:cNvSpPr/>
            <p:nvPr/>
          </p:nvSpPr>
          <p:spPr>
            <a:xfrm>
              <a:off x="762120" y="1447920"/>
              <a:ext cx="761976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82800" y="1876320"/>
              <a:ext cx="419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2800" y="1662120"/>
              <a:ext cx="3975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982800" y="3376800"/>
              <a:ext cx="2208240" cy="214200"/>
              <a:chOff x="982800" y="3376800"/>
              <a:chExt cx="2208240" cy="214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203480" y="33768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82800" y="3412440"/>
                <a:ext cx="220680" cy="142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70720" y="3376800"/>
              <a:ext cx="2208240" cy="214200"/>
              <a:chOff x="2970720" y="3376800"/>
              <a:chExt cx="2208240" cy="214200"/>
            </a:xfrm>
          </p:grpSpPr>
          <p:sp>
            <p:nvSpPr>
              <p:cNvPr id="114" name=""/>
              <p:cNvSpPr/>
              <p:nvPr/>
            </p:nvSpPr>
            <p:spPr>
              <a:xfrm>
                <a:off x="3191400" y="33768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70720" y="3412440"/>
                <a:ext cx="220680" cy="142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982800" y="230508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2800" y="20192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03480" y="201924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5880" y="201924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8800" y="201924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87920" y="20192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08960" y="2019240"/>
              <a:ext cx="55188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8480" y="21621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179320" y="3376800"/>
              <a:ext cx="1545840" cy="214200"/>
              <a:chOff x="5179320" y="3376800"/>
              <a:chExt cx="1545840" cy="214200"/>
            </a:xfrm>
          </p:grpSpPr>
          <p:sp>
            <p:nvSpPr>
              <p:cNvPr id="125" name=""/>
              <p:cNvSpPr/>
              <p:nvPr/>
            </p:nvSpPr>
            <p:spPr>
              <a:xfrm>
                <a:off x="5179320" y="3476880"/>
                <a:ext cx="2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00000" y="3376800"/>
                <a:ext cx="1325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982800" y="316260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39520" y="287676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60200" y="287676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39520" y="21621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18480" y="20192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8480" y="3019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424520" y="3019680"/>
              <a:ext cx="993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2800" y="2805120"/>
              <a:ext cx="165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erred back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4840" y="21621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95880" y="20192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9520" y="2162160"/>
              <a:ext cx="14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5880" y="3019680"/>
              <a:ext cx="883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79320" y="1876320"/>
              <a:ext cx="0" cy="114300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10520" y="2305080"/>
              <a:ext cx="0" cy="71424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10520" y="287676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83800" y="287676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9320" y="301968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3960" y="2305080"/>
              <a:ext cx="0" cy="57132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39520" y="2733840"/>
              <a:ext cx="37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39520" y="2519280"/>
              <a:ext cx="3754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7920" y="230508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82800" y="1876320"/>
              <a:ext cx="0" cy="1425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4840" y="21621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74840" y="3019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82800" y="15904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82800" y="244800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93960" y="2519280"/>
              <a:ext cx="9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93960" y="25192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0E2-9D54-45CB-BCB8-9D10602F58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590920" y="1600200"/>
            <a:ext cx="3885840" cy="3428640"/>
            <a:chOff x="2590920" y="1600200"/>
            <a:chExt cx="3885840" cy="3428640"/>
          </a:xfrm>
        </p:grpSpPr>
        <p:grpSp>
          <p:nvGrpSpPr>
            <p:cNvPr id="156" name=""/>
            <p:cNvGrpSpPr/>
            <p:nvPr/>
          </p:nvGrpSpPr>
          <p:grpSpPr>
            <a:xfrm>
              <a:off x="2590920" y="1778760"/>
              <a:ext cx="2926800" cy="2683440"/>
              <a:chOff x="2590920" y="1778760"/>
              <a:chExt cx="2926800" cy="2683440"/>
            </a:xfrm>
          </p:grpSpPr>
          <p:sp>
            <p:nvSpPr>
              <p:cNvPr id="157" name=""/>
              <p:cNvSpPr/>
              <p:nvPr/>
            </p:nvSpPr>
            <p:spPr>
              <a:xfrm>
                <a:off x="3875040" y="294120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90920" y="177876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52400" y="253908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549960" y="2345400"/>
              <a:ext cx="2926800" cy="2683440"/>
              <a:chOff x="3549960" y="2345400"/>
              <a:chExt cx="2926800" cy="2683440"/>
            </a:xfrm>
          </p:grpSpPr>
          <p:sp>
            <p:nvSpPr>
              <p:cNvPr id="161" name=""/>
              <p:cNvSpPr/>
              <p:nvPr/>
            </p:nvSpPr>
            <p:spPr>
              <a:xfrm>
                <a:off x="4834080" y="350784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49960" y="234540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11440" y="310572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87600" y="1600200"/>
              <a:ext cx="2926800" cy="2683440"/>
              <a:chOff x="3387600" y="1600200"/>
              <a:chExt cx="2926800" cy="2683440"/>
            </a:xfrm>
          </p:grpSpPr>
          <p:sp>
            <p:nvSpPr>
              <p:cNvPr id="165" name=""/>
              <p:cNvSpPr/>
              <p:nvPr/>
            </p:nvSpPr>
            <p:spPr>
              <a:xfrm>
                <a:off x="4671720" y="276264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87600" y="160020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9080" y="236052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ping BSS Scenari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work very well in situations where BSSs overlap and PCs are in range of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7A4-C572-4B02-BC44-7CE14C625D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905120" y="1143000"/>
            <a:ext cx="5867280" cy="3352320"/>
            <a:chOff x="1905120" y="1143000"/>
            <a:chExt cx="5867280" cy="3352320"/>
          </a:xfrm>
        </p:grpSpPr>
        <p:grpSp>
          <p:nvGrpSpPr>
            <p:cNvPr id="171" name=""/>
            <p:cNvGrpSpPr/>
            <p:nvPr/>
          </p:nvGrpSpPr>
          <p:grpSpPr>
            <a:xfrm>
              <a:off x="1905120" y="1600200"/>
              <a:ext cx="2707920" cy="2742840"/>
              <a:chOff x="1905120" y="1600200"/>
              <a:chExt cx="2707920" cy="2742840"/>
            </a:xfrm>
          </p:grpSpPr>
          <p:sp>
            <p:nvSpPr>
              <p:cNvPr id="172" name=""/>
              <p:cNvSpPr/>
              <p:nvPr/>
            </p:nvSpPr>
            <p:spPr>
              <a:xfrm>
                <a:off x="3093480" y="27885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05120" y="16002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02160" y="23770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61600" y="1752480"/>
              <a:ext cx="2707920" cy="2742840"/>
              <a:chOff x="4161600" y="1752480"/>
              <a:chExt cx="2707920" cy="2742840"/>
            </a:xfrm>
          </p:grpSpPr>
          <p:sp>
            <p:nvSpPr>
              <p:cNvPr id="176" name=""/>
              <p:cNvSpPr/>
              <p:nvPr/>
            </p:nvSpPr>
            <p:spPr>
              <a:xfrm>
                <a:off x="5349960" y="294084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61600" y="175248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58640" y="252936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958120" y="1600200"/>
              <a:ext cx="2707920" cy="2742840"/>
              <a:chOff x="2958120" y="1600200"/>
              <a:chExt cx="2707920" cy="2742840"/>
            </a:xfrm>
          </p:grpSpPr>
          <p:sp>
            <p:nvSpPr>
              <p:cNvPr id="180" name=""/>
              <p:cNvSpPr/>
              <p:nvPr/>
            </p:nvSpPr>
            <p:spPr>
              <a:xfrm>
                <a:off x="4146480" y="27885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58120" y="16002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55160" y="23770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064480" y="1143000"/>
              <a:ext cx="2707920" cy="2742840"/>
              <a:chOff x="5064480" y="1143000"/>
              <a:chExt cx="2707920" cy="2742840"/>
            </a:xfrm>
          </p:grpSpPr>
          <p:sp>
            <p:nvSpPr>
              <p:cNvPr id="184" name=""/>
              <p:cNvSpPr/>
              <p:nvPr/>
            </p:nvSpPr>
            <p:spPr>
              <a:xfrm>
                <a:off x="6252840" y="23313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64480" y="11430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1520" y="19198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ping BSS Scenari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may suffer from the same problems as the DCF in hidden node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TS/CTS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gular NAV in RTS/CTS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used by other PC to relinquish medium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856-9844-49E5-9760-52DE806BF8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and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but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upport for legacy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line with what is standardized by other workgroups and standardization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F enhancements welcome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s will prove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‘loose-ends’ need to be worked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74E-4DBC-42FE-AE38-9A69AF93D7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WN’s suggestions for MAC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WN actually implements PCF in thei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nd versatil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some problems that need to be 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ed integration with IETF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 over Specific Link Layers (ISS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(p)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0B9-8BBA-4406-A110-A7660E4CA9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(p) Prio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SAP between MAC and L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t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IETF through ISS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dominant 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0200" y="2590920"/>
            <a:ext cx="409572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434-3E35-47B5-AB76-CF029E3351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ccess mechanisms: DCF and PC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/weaknes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works well under low load situations, PCF works optimal under high load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works better in networks were BSSs overlap, PCF is ideally suited for networks were BSSs are carefully planned not to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has a relatively low implementation complexity, PCF is (said to be) complex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DE3-9CDB-4118-9A6B-3EACE4F475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/weakness analysi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does not allow explicit access control, PCF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efficiency drops considerably in densely populated BSSs, PCF has no scal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supports legacy stations, PCF only to some ex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CF weaknesses prevented vendors from implementing the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nterest because of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EE5-A704-45AE-8F3B-D1B9D206E8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s focus either on DCF 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to approach it as an integr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FP can only be sustained if the queues on the access point or stations are adequately backlo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ken-egg problem; polled to have medium access – medium access to get on pol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gulatory domains do not allow constant medium occupancy by one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of legacy devices may require an enhanced D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always spend some time in the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12A-BF2D-4756-99F0-EA91DBF9AF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s show gab between DCF and PC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loaded systems spend half of their time in DCF, half in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ice provided by the system should be linear throughout load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CD4-1A2D-41FA-9D67-4AA3D75416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full mediu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 medium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ffering from scalabil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for gab between DCF and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ggestions for DCF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658-8046-4236-918F-85EE41D520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802.1p prio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802.11 MAC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 overlapping BS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between DCF and 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-compatibility with legac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urrently existing fram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rely too heavily on new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implementation complexity 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7EF-2760-45D6-B391-10FE459B75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Maarten Hoeben</dc:creator>
  <dc:description/>
  <dc:language>en-US</dc:language>
  <cp:lastModifiedBy>Maarten Hoeben</cp:lastModifiedBy>
  <cp:lastPrinted>1998-02-10T13:28:06Z</cp:lastPrinted>
  <dcterms:modified xsi:type="dcterms:W3CDTF">2000-05-11T14:48:41Z</dcterms:modified>
  <cp:revision>48</cp:revision>
  <dc:subject/>
  <dc:title>00/113 Suggested PCF Enhancements and Contention Free Bursts</dc:title>
</cp:coreProperties>
</file>