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AA2-BD0E-4D21-BA1B-268267E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D1B-8BCF-414A-A5A6-353BE89C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AC6-C8E3-472E-B1CD-CC476375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63A-F790-425A-87B8-30A41127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BC4-0FA2-4A8D-BEA6-B5B015C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1DD-CA19-445B-8244-24753AF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397-A8BD-4B7C-80E5-E9C4BEFA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31D-470B-4EBF-930D-9202BE94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5DB-F1A8-4D35-98E5-9840E2CE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170-A861-4AA0-860F-D344A21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A30-3A8C-4568-B8F9-EC01235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85C-014B-4D50-A7D6-F1E6EDCF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C3782E-BF8D-4BD1-A639-A49C87D2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6446880"/>
            <a:ext cx="202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F Enhancements and CF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PCF Enhancements and Contention Free Bur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ire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03C-A134-44FB-9999-26036E5E3D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Defici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ssues limit the use of the PCF for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9.3.4 and specifically clause 9.3.4.1 imposes strict rules upon the order in which stations are addressed or p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mechanism (other than the More-Data bit) that allows a station to communicate its queue state(s) to the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BE8-F31C-4454-90BF-7B2FC99C7D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order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uration/ID field for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 time of next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amble time + frame size / b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ggy-backed on each To-D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can explicitly poll for update by sending Nul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70A-CFD9-41F6-805B-21DE31200A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Free Bursts (CFB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following PC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CFP under average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BS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FP needs to be one uninterrupted sequence of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this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the PC to relinquish medium control to other BSSs in the sam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an temporarily give-up medium control and defer control until new frames are available for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BE3-EAF5-4850-A4D5-700F7C479D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ed CF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9.3.3 transfer procedures apply within C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Bs have a maximum duration of CFBMax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duration is encoded in all From-DS data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off procedure between CF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1752480"/>
            <a:ext cx="7543800" cy="1828800"/>
            <a:chOff x="762120" y="1752480"/>
            <a:chExt cx="7543800" cy="1828800"/>
          </a:xfrm>
        </p:grpSpPr>
        <p:sp>
          <p:nvSpPr>
            <p:cNvPr id="73" name=""/>
            <p:cNvSpPr/>
            <p:nvPr/>
          </p:nvSpPr>
          <p:spPr>
            <a:xfrm>
              <a:off x="762120" y="1752480"/>
              <a:ext cx="75438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980640" y="1752480"/>
              <a:ext cx="3935880" cy="288720"/>
              <a:chOff x="980640" y="1752480"/>
              <a:chExt cx="3935880" cy="288720"/>
            </a:xfrm>
          </p:grpSpPr>
          <p:sp>
            <p:nvSpPr>
              <p:cNvPr id="75" name=""/>
              <p:cNvSpPr/>
              <p:nvPr/>
            </p:nvSpPr>
            <p:spPr>
              <a:xfrm>
                <a:off x="980640" y="2041200"/>
                <a:ext cx="39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0640" y="1752480"/>
                <a:ext cx="39358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80640" y="2811240"/>
              <a:ext cx="5029200" cy="288720"/>
              <a:chOff x="980640" y="2811240"/>
              <a:chExt cx="5029200" cy="288720"/>
            </a:xfrm>
          </p:grpSpPr>
          <p:sp>
            <p:nvSpPr>
              <p:cNvPr id="78" name=""/>
              <p:cNvSpPr/>
              <p:nvPr/>
            </p:nvSpPr>
            <p:spPr>
              <a:xfrm>
                <a:off x="980640" y="28112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80640" y="2811240"/>
                <a:ext cx="502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Peri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980640" y="3186720"/>
              <a:ext cx="2186280" cy="288360"/>
              <a:chOff x="980640" y="3186720"/>
              <a:chExt cx="2186280" cy="288360"/>
            </a:xfrm>
          </p:grpSpPr>
          <p:sp>
            <p:nvSpPr>
              <p:cNvPr id="81" name=""/>
              <p:cNvSpPr/>
              <p:nvPr/>
            </p:nvSpPr>
            <p:spPr>
              <a:xfrm>
                <a:off x="119916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80640" y="3234600"/>
                <a:ext cx="218520" cy="192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948400" y="3186720"/>
              <a:ext cx="2186280" cy="288360"/>
              <a:chOff x="2948400" y="3186720"/>
              <a:chExt cx="2186280" cy="288360"/>
            </a:xfrm>
          </p:grpSpPr>
          <p:sp>
            <p:nvSpPr>
              <p:cNvPr id="84" name=""/>
              <p:cNvSpPr/>
              <p:nvPr/>
            </p:nvSpPr>
            <p:spPr>
              <a:xfrm>
                <a:off x="316692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48400" y="3234600"/>
                <a:ext cx="218520" cy="19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916520" y="1752480"/>
              <a:ext cx="1093320" cy="288720"/>
              <a:chOff x="4916520" y="1752480"/>
              <a:chExt cx="1093320" cy="288720"/>
            </a:xfrm>
          </p:grpSpPr>
          <p:sp>
            <p:nvSpPr>
              <p:cNvPr id="87" name=""/>
              <p:cNvSpPr/>
              <p:nvPr/>
            </p:nvSpPr>
            <p:spPr>
              <a:xfrm>
                <a:off x="4916520" y="2041200"/>
                <a:ext cx="10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16520" y="1752480"/>
                <a:ext cx="1093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980640" y="2233440"/>
              <a:ext cx="7106400" cy="384840"/>
              <a:chOff x="980640" y="2233440"/>
              <a:chExt cx="7106400" cy="384840"/>
            </a:xfrm>
          </p:grpSpPr>
          <p:sp>
            <p:nvSpPr>
              <p:cNvPr id="90" name=""/>
              <p:cNvSpPr/>
              <p:nvPr/>
            </p:nvSpPr>
            <p:spPr>
              <a:xfrm>
                <a:off x="980640" y="2618280"/>
                <a:ext cx="710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06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991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20440" y="2233440"/>
                <a:ext cx="109296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41720" y="2233440"/>
                <a:ext cx="7650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07080" y="2233440"/>
                <a:ext cx="10908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098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283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40200" y="2233440"/>
                <a:ext cx="54648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01560" y="24260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3760" y="2426040"/>
                <a:ext cx="32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135400" y="3186720"/>
              <a:ext cx="1530360" cy="288360"/>
              <a:chOff x="5135400" y="3186720"/>
              <a:chExt cx="1530360" cy="288360"/>
            </a:xfrm>
          </p:grpSpPr>
          <p:sp>
            <p:nvSpPr>
              <p:cNvPr id="102" name=""/>
              <p:cNvSpPr/>
              <p:nvPr/>
            </p:nvSpPr>
            <p:spPr>
              <a:xfrm>
                <a:off x="5135400" y="33213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53920" y="3186720"/>
                <a:ext cx="13118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832-A54A-421A-BD28-521BC597B3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between 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restriction of NAV settings based on CFPDurRemaing in Beacon for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tend to start a CF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Ps and stations don’t interfere because CF-con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Bs are protected through duration field in From-DS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2120" y="1447920"/>
            <a:ext cx="7619760" cy="2286000"/>
            <a:chOff x="762120" y="1447920"/>
            <a:chExt cx="7619760" cy="2286000"/>
          </a:xfrm>
        </p:grpSpPr>
        <p:sp>
          <p:nvSpPr>
            <p:cNvPr id="107" name=""/>
            <p:cNvSpPr/>
            <p:nvPr/>
          </p:nvSpPr>
          <p:spPr>
            <a:xfrm>
              <a:off x="762120" y="1447920"/>
              <a:ext cx="761976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2800" y="1876320"/>
              <a:ext cx="41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2800" y="1662120"/>
              <a:ext cx="3975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982800" y="3376800"/>
              <a:ext cx="2208240" cy="214200"/>
              <a:chOff x="982800" y="3376800"/>
              <a:chExt cx="2208240" cy="214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20348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82800" y="3412440"/>
                <a:ext cx="220680" cy="142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70720" y="3376800"/>
              <a:ext cx="2208240" cy="214200"/>
              <a:chOff x="2970720" y="3376800"/>
              <a:chExt cx="2208240" cy="214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19140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70720" y="3412440"/>
                <a:ext cx="220680" cy="142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82800" y="230508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280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03480" y="201924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5880" y="201924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8800" y="201924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792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08960" y="2019240"/>
              <a:ext cx="55188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848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179320" y="3376800"/>
              <a:ext cx="1545840" cy="214200"/>
              <a:chOff x="5179320" y="3376800"/>
              <a:chExt cx="1545840" cy="214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179320" y="3476880"/>
                <a:ext cx="2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00000" y="3376800"/>
                <a:ext cx="1325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982800" y="316260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39520" y="287676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60200" y="287676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3952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184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848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424520" y="3019680"/>
              <a:ext cx="993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2800" y="2805120"/>
              <a:ext cx="165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erred back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484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958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9520" y="2162160"/>
              <a:ext cx="14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5880" y="3019680"/>
              <a:ext cx="883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79320" y="1876320"/>
              <a:ext cx="0" cy="114300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10520" y="2305080"/>
              <a:ext cx="0" cy="71424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10520" y="287676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83800" y="287676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9320" y="301968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3960" y="2305080"/>
              <a:ext cx="0" cy="57132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9520" y="2733840"/>
              <a:ext cx="37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39520" y="2519280"/>
              <a:ext cx="3754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7920" y="230508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2800" y="1876320"/>
              <a:ext cx="0" cy="1425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484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7484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2800" y="15904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2800" y="244800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93960" y="2519280"/>
              <a:ext cx="9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93960" y="25192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2CC-55F0-4C35-A46D-0FB2CADD45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590920" y="1600200"/>
            <a:ext cx="3885840" cy="3428640"/>
            <a:chOff x="2590920" y="1600200"/>
            <a:chExt cx="3885840" cy="3428640"/>
          </a:xfrm>
        </p:grpSpPr>
        <p:grpSp>
          <p:nvGrpSpPr>
            <p:cNvPr id="156" name=""/>
            <p:cNvGrpSpPr/>
            <p:nvPr/>
          </p:nvGrpSpPr>
          <p:grpSpPr>
            <a:xfrm>
              <a:off x="2590920" y="1778760"/>
              <a:ext cx="2926800" cy="2683440"/>
              <a:chOff x="2590920" y="1778760"/>
              <a:chExt cx="2926800" cy="2683440"/>
            </a:xfrm>
          </p:grpSpPr>
          <p:sp>
            <p:nvSpPr>
              <p:cNvPr id="157" name=""/>
              <p:cNvSpPr/>
              <p:nvPr/>
            </p:nvSpPr>
            <p:spPr>
              <a:xfrm>
                <a:off x="3875040" y="294120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90920" y="177876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2400" y="253908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49960" y="2345400"/>
              <a:ext cx="2926800" cy="2683440"/>
              <a:chOff x="3549960" y="2345400"/>
              <a:chExt cx="2926800" cy="2683440"/>
            </a:xfrm>
          </p:grpSpPr>
          <p:sp>
            <p:nvSpPr>
              <p:cNvPr id="161" name=""/>
              <p:cNvSpPr/>
              <p:nvPr/>
            </p:nvSpPr>
            <p:spPr>
              <a:xfrm>
                <a:off x="4834080" y="35078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49960" y="23454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11440" y="31057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87600" y="1600200"/>
              <a:ext cx="2926800" cy="2683440"/>
              <a:chOff x="3387600" y="1600200"/>
              <a:chExt cx="2926800" cy="268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4671720" y="27626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7600" y="16002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9080" y="23605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work very well in situations where BSSs overlap and PCs are in range of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AEB-52C4-41B3-8BD6-070FC2AE73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1143000"/>
            <a:ext cx="5867280" cy="3352320"/>
            <a:chOff x="1905120" y="1143000"/>
            <a:chExt cx="5867280" cy="3352320"/>
          </a:xfrm>
        </p:grpSpPr>
        <p:grpSp>
          <p:nvGrpSpPr>
            <p:cNvPr id="171" name=""/>
            <p:cNvGrpSpPr/>
            <p:nvPr/>
          </p:nvGrpSpPr>
          <p:grpSpPr>
            <a:xfrm>
              <a:off x="1905120" y="1600200"/>
              <a:ext cx="2707920" cy="2742840"/>
              <a:chOff x="1905120" y="1600200"/>
              <a:chExt cx="2707920" cy="2742840"/>
            </a:xfrm>
          </p:grpSpPr>
          <p:sp>
            <p:nvSpPr>
              <p:cNvPr id="172" name=""/>
              <p:cNvSpPr/>
              <p:nvPr/>
            </p:nvSpPr>
            <p:spPr>
              <a:xfrm>
                <a:off x="3093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05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02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61600" y="1752480"/>
              <a:ext cx="2707920" cy="2742840"/>
              <a:chOff x="4161600" y="1752480"/>
              <a:chExt cx="2707920" cy="27428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49960" y="294084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61600" y="175248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58640" y="252936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958120" y="1600200"/>
              <a:ext cx="2707920" cy="2742840"/>
              <a:chOff x="2958120" y="1600200"/>
              <a:chExt cx="2707920" cy="2742840"/>
            </a:xfrm>
          </p:grpSpPr>
          <p:sp>
            <p:nvSpPr>
              <p:cNvPr id="180" name=""/>
              <p:cNvSpPr/>
              <p:nvPr/>
            </p:nvSpPr>
            <p:spPr>
              <a:xfrm>
                <a:off x="4146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58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55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064480" y="1143000"/>
              <a:ext cx="2707920" cy="2742840"/>
              <a:chOff x="5064480" y="1143000"/>
              <a:chExt cx="2707920" cy="2742840"/>
            </a:xfrm>
          </p:grpSpPr>
          <p:sp>
            <p:nvSpPr>
              <p:cNvPr id="184" name=""/>
              <p:cNvSpPr/>
              <p:nvPr/>
            </p:nvSpPr>
            <p:spPr>
              <a:xfrm>
                <a:off x="6252840" y="23313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64480" y="11430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1520" y="19198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may suffer from the same problems as the DCF in hidden node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TS/CTS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gular NAV in RTS/CTS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by other PC to relinquish medium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B19-193F-411E-A380-95BA751966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but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upport for legacy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line with what is standardized by other workgroups and standardization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F enhancements welcome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will prove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‘loose-ends’ need to be worked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B2E-724C-4C8F-9ACF-516E00409B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N’s suggestions for MAC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WN actually implements PCF in thei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nd versatil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some problems that need to be 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ed integration with IETF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 over Specific Link Layers (ISS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2F2-3CBE-4992-B272-D608B82D2E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SAP between MAC and L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t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IETF through ISS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dominant 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0200" y="2590920"/>
            <a:ext cx="409572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432-96F4-4CA0-9660-F49C6381B4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ccess mechanisms: DCF and PC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well under low load situations, PCF works optimal under high loa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better in networks were BSSs overlap, PCF is ideally suited for networks were BSSs are carefully planned not to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has a relatively low implementation complexity, PCF is (said to be) complex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EB7-6CE1-418D-BFE1-1BADDA2FBA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does not allow explicit access control, PCF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efficiency drops considerably in densely populated BSSs, PCF has no scal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supports legacy stations, PCF only to some ex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CF weaknesses prevented vendors from implementing the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terest because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D91-5270-41EC-8E6E-84FD8700ED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s focus either on DCF 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to approach it as an 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FP can only be sustained if the queues on the access point or stations are adequately back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ken-egg problem; polled to have medium access – medium access to get on pol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gulatory domains do not allow constant medium occupancy by one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of legacy devices may require an enhanced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always spend some time in the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ACE-2430-4CCA-A3A4-62F8DB11A4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s show gab between DCF and PC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loaded systems spend half of their time in DCF, half in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ice provided by the system should be linear throughout load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F53-74E3-460E-BB57-5F6CD5AA33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full mediu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medium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ffering from scalabil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for gab between DCF and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ggestions for DCF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008-B139-4D49-8386-3CDB10AD42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802.1p prio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802.11 MAC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overlapping B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between DCF and 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-compatibility with legac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urrently existing fram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rely too heavily on new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mplementation complexity 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F69-067B-4887-AB7C-2F41009E38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Maarten Hoeben</dc:creator>
  <dc:description/>
  <dc:language>en-US</dc:language>
  <cp:lastModifiedBy>Maarten Hoeben</cp:lastModifiedBy>
  <cp:lastPrinted>1998-02-10T13:28:06Z</cp:lastPrinted>
  <dcterms:modified xsi:type="dcterms:W3CDTF">2000-05-11T14:48:41Z</dcterms:modified>
  <cp:revision>48</cp:revision>
  <dc:subject/>
  <dc:title>00/113 Suggested PCF Enhancements and Contention Free Bursts</dc:title>
</cp:coreProperties>
</file>