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875-42B4-4057-AE2D-CD33D9F3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9256-CBBD-4CBD-A1BE-BE5DE73A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683-E942-4D4B-83F8-C01B6D1D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6006-1572-47F1-B6BE-8CDA4CC1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5C2-E96F-43FD-9970-927B08AD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79EB-BF9F-45F9-AF5F-97C4B161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F415-A593-4B96-9DDA-D029205F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C1B-15F5-42E8-8BEA-DD059FE6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521-4B5F-463F-8951-8C54571D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76E9-95BF-4649-974D-745254E2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49FD-8F71-4E6D-A65E-3620442A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63AC-1A4A-48A7-8AE1-5D18046C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et 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4DFA029-2C20-40AB-8BF0-A3F3EDED0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720" y="6446880"/>
            <a:ext cx="139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in an IAP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Be in an IAP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O’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Technology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t_col" descr=""/>
          <p:cNvPicPr/>
          <p:nvPr/>
        </p:nvPicPr>
        <p:blipFill>
          <a:blip r:embed="rId1"/>
          <a:stretch/>
        </p:blipFill>
        <p:spPr>
          <a:xfrm>
            <a:off x="6705720" y="4572000"/>
            <a:ext cx="1773000" cy="184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0259-C08A-4988-AC8D-F8BAC093A47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Submission on IA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4/17 – The Provisions Required for Handoff, Wim Diepstra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5/188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Far Should an ESS Exte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, Michael Fis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6/108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 Inter Access Point Protocol (IAPP) Specifi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im Diepstraten and Mike Trom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EAA-5B69-4336-BA67-57B5DF5130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4/17 – Provisions for Hand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P must inform old AP when a station reassoci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P must inform DS of the new location of the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AP may forward buffered frames for reassociating station to new 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8255-634B-4A4E-983A-B5C3F59528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5/188 ESS Ex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ls mostly with the definition of and extended service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s that an ESS comprise only layer 2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es “More Extended Service Set (MESS)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s that this be used for any ESS including items above lay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es that an IAPP would be a fruitful area to standard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A679-6A6B-49CB-8FA3-601194BD18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6/108 Draft IAPP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two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ounce protocol prov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cation of active 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 announcement of capabilities and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 “heartbea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d management and configuration of 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over protocol prov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fication of old AP that a station is reassociating with a new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of layer 2 DS devices to properly forward frames to reassociating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proprietary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341B-A40B-49F0-BBEB-E8711903C5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6/108 Draft IAPP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unce and handover protocol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BS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station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PP capabilities and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ic announce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 stale-ou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over 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con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C38-FFF7-4DF5-9FC7-8C8BF44D1E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Be 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’s IAP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andover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es association with old 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s layer 2 DS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for optional forwarding of buffered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BD14-F575-46BF-B7CE-6FB8166DFC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Might Be 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’s IAP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ed AP configuration/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 of APs in an 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 2 on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of basic AP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of “no touch” out-of-box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configuration of one A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 “heartbea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be useful if there is a way to integrate it with standard network management cons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67BC-A8F7-4CC6-9FBA-AFF5FA0D1C8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Harry R. Worstell</cp:lastModifiedBy>
  <cp:lastPrinted>1998-02-10T13:28:06Z</cp:lastPrinted>
  <dcterms:modified xsi:type="dcterms:W3CDTF">2000-05-16T01:41:30Z</dcterms:modified>
  <cp:revision>48</cp:revision>
  <dc:subject/>
  <dc:title>00/064a What Should Be In An IAPP?</dc:title>
</cp:coreProperties>
</file>