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508-8922-4EDF-B59C-32CF8E88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454-CFEC-42D3-8AED-171B5924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4A5-D201-4CB6-B751-D04B4768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07D-5339-40FC-8831-CBE47EBE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0FA-C827-45BE-B4FB-8A780D34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7FF-945B-47F0-8F54-66B12A9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920-1779-41FC-A2CA-57B220B9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D55-AF42-4CAC-83D6-DD0B064D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255-B0DE-4148-B064-94C682E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781-8A00-431F-B97A-DC1774C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590-A7E8-40F8-9CFC-663DCCC1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0B7-6EEA-4327-8316-B5072739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DA59EA-A3E7-4311-ADCD-A8F9E51F6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TU-R Structur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d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ob Hu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Matsushita/Panas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12 January 2000, Tel Av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685800"/>
            <a:ext cx="5486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89C-1867-49E4-9558-348D195C71F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035000"/>
            <a:ext cx="746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a company (or individual*) participate in the US ITU-R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ttending the meetings and bring contrib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tudy Group deals with wireless LANS*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LANs are dealt with* in Working Party 8A (under Study Group 8 - Mobile Servic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Mobile Services typically share with Fixed Services, there is a continuing need for close cooperation between WP 8A and WP 9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chieved through Joint Rappeatuers Group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io LANs (RL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*  Study Group 9, dealing with Fixed Services, has long contended that WLANs are in their dom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278-E145-4652-A03C-1E35F596B4B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1123920"/>
            <a:ext cx="7467480" cy="46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contribution approval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Study Group (includes approval by FCC and NT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‘National Committee’ for radio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JRG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Study Group 8 (Recommendation for Mobile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Study Group 9 (Recommendation for Fixe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 There are alternate fast track procedures for the final 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FE3-32F7-41CA-8FB8-6A129B3ECF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1066680"/>
            <a:ext cx="73152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U-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tru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wave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atelli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c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, Radiodetermination, Amateur and related Satelli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ittee on Regulatory/Procedural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c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rdination Committee for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p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erence Preparator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4BB-08D0-4ECB-A113-85E24620236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1674720"/>
            <a:ext cx="73152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covered:  The WR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haps this can be provided in the futu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is time the ITU-R process is most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0DA-1AA7-41AF-AF4A-1E51A92EA45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19400" y="1371600"/>
            <a:ext cx="4832280" cy="350532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65720" y="281952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733920"/>
            <a:ext cx="276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ecommunications Standardization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274644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velopment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446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5238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IT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181480"/>
            <a:ext cx="5715000" cy="990720"/>
          </a:xfrm>
          <a:prstGeom prst="wedgeRectCallout">
            <a:avLst>
              <a:gd name="adj1" fmla="val 12277"/>
              <a:gd name="adj2" fmla="val -13701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ld Radiocommunication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 ITU meeting, not a Sector me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B96-7DD2-4629-8C82-91BEB98B84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71800" y="1035000"/>
            <a:ext cx="518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-5409720" y="1143000"/>
            <a:ext cx="13562640" cy="5616720"/>
            <a:chOff x="-5409720" y="1143000"/>
            <a:chExt cx="13562640" cy="5616720"/>
          </a:xfrm>
        </p:grpSpPr>
        <p:grpSp>
          <p:nvGrpSpPr>
            <p:cNvPr id="58" name=""/>
            <p:cNvGrpSpPr/>
            <p:nvPr/>
          </p:nvGrpSpPr>
          <p:grpSpPr>
            <a:xfrm>
              <a:off x="-5409720" y="1143000"/>
              <a:ext cx="13562640" cy="5616720"/>
              <a:chOff x="-5409720" y="1143000"/>
              <a:chExt cx="13562640" cy="5616720"/>
            </a:xfrm>
          </p:grpSpPr>
          <p:sp>
            <p:nvSpPr>
              <p:cNvPr id="59" name=""/>
              <p:cNvSpPr/>
              <p:nvPr/>
            </p:nvSpPr>
            <p:spPr>
              <a:xfrm>
                <a:off x="-5409720" y="1143000"/>
                <a:ext cx="13562640" cy="56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9410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9410930"/>
                  </a:path>
                </a:pathLst>
              </a:custGeom>
              <a:solidFill>
                <a:srgbClr val="66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flipV="1">
              <a:off x="2361960" y="1523520"/>
              <a:ext cx="236232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3880" y="143208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adiocommunications Burea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52280" y="3733920"/>
            <a:ext cx="2438640" cy="1218960"/>
          </a:xfrm>
          <a:prstGeom prst="wedgeRectCallout">
            <a:avLst>
              <a:gd name="adj1" fmla="val 49935"/>
              <a:gd name="adj2" fmla="val -171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minister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Table of 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o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43680" y="2057400"/>
            <a:ext cx="36615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eting of all Study Grou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7920" y="37940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1752480"/>
            <a:ext cx="2057400" cy="762120"/>
          </a:xfrm>
          <a:prstGeom prst="wedgeRectCallout">
            <a:avLst>
              <a:gd name="adj1" fmla="val -95060"/>
              <a:gd name="adj2" fmla="val 6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uides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276720"/>
            <a:ext cx="2362320" cy="1143000"/>
          </a:xfrm>
          <a:prstGeom prst="wedgeRectCallout">
            <a:avLst>
              <a:gd name="adj1" fmla="val -75671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lans and appr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Recommend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30560" y="47084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ing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13760" y="48769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105520"/>
            <a:ext cx="2438640" cy="1218960"/>
          </a:xfrm>
          <a:prstGeom prst="wedgeRectCallout">
            <a:avLst>
              <a:gd name="adj1" fmla="val 90625"/>
              <a:gd name="adj2" fmla="val -4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ork and draf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perman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5486400"/>
            <a:ext cx="3124440" cy="1219320"/>
          </a:xfrm>
          <a:prstGeom prst="wedgeRectCallout">
            <a:avLst>
              <a:gd name="adj1" fmla="val -26319"/>
              <a:gd name="adj2" fmla="val -73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fts 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highly urgent, short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952880" y="32385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8024600">
            <a:off x="4076640" y="415296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3575400">
            <a:off x="5676120" y="422892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42F-8524-404E-94D0-97415CB571C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227240"/>
            <a:ext cx="7467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frequency use decided within a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contr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llocation (designation to a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ssignment (permission to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ormance with the Radio Regulations (contains the International Table of Frequency Alloc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 to cause harmful interference to radio systems anothe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3BF-D9AD-4BC7-90DA-4E8ABA8FFFA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1066680"/>
            <a:ext cx="74678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the Radio Regulations fit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ontain international treat-binding agreements on how to use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are maintained by the WRC (World Radiocommunication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merly the WARC). The WRC is attended by ITU member coun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s for a new allocation have a small chance of success without frequency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ing criteria from ITU-R Recommendations are easily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campaigns for a frequency allocation often start in the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C08-AB3D-4D79-AE2B-C690CFE51AC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130400"/>
            <a:ext cx="7467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ITU-R shows that sharing is possible between existing services (in use) and the new service, is a new allocation as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An Administration (country) can oppose a new allocation based future use of a current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a new allocation ap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dministrations present at the WRC vote (one country one vote)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a single no vote stop an alloca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However, any country can insert a footnote in the Table indicating an exception in their cou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1BE-7E2B-4D5B-B7B1-9106C318EFC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111744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bout the ITU process in the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TU-R process for obtaining a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C process for obtaining an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first, it is useful to understand the structure within the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60E-BDE3-4956-AC58-28007D3BFA2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387440"/>
            <a:ext cx="7467840" cy="45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S structure for frequency allocation matters is a triumvant, consisting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artment of State (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l control due to treaty binding text and foreign relations nature of agre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non-government (commercial and public)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government use (military, public service, FA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DED-11AA-4B75-9F30-4A2012D3235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285920"/>
            <a:ext cx="74674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artment of State administers the US ITU-R proces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ing the US Stud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ointing a US chairma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be from the government or private s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uring that all US positions are agreed to by the FCC, NTIA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rediting delegations to Study Group meetings and Radiocommunications assembl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13B-71B8-4FA9-8FA4-69B243BB3CE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22:14:45Z</dcterms:created>
  <dc:creator>Bob Huang</dc:creator>
  <dc:description/>
  <dc:language>en-US</dc:language>
  <cp:lastModifiedBy>vichayes</cp:lastModifiedBy>
  <cp:lastPrinted>2000-02-03T12:15:23Z</cp:lastPrinted>
  <dcterms:modified xsi:type="dcterms:W3CDTF">2000-02-03T12:16:29Z</dcterms:modified>
  <cp:revision>2</cp:revision>
  <dc:subject/>
  <dc:title>The ITU-R Structure  and Process </dc:title>
</cp:coreProperties>
</file>