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04B-FAAB-4C7C-A4D0-2218E31A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BFA-3967-4A68-9D23-79C3AD9F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DB6-2FA2-48EE-91C1-8895111F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899-C90A-44A2-A2AD-26CBAEB3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2AE-50CA-4D29-99EE-C6FA293B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46B-955E-41EF-A01C-71A6215C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685-4ADD-449A-9FFE-16675736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FCB-4B11-496B-A3A6-A9DA18C7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375-CE37-42F0-99E2-49475D77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41B-CE85-4B16-A788-47839017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09C-3B93-458A-A4CE-ED9CA605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246-D438-44C4-A476-58D3E94D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587E6E-2E37-40A8-A239-5B208C4ED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6B5-8753-4276-8BF5-FC2190DABE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B22-939F-4E91-8154-DCA71342094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123920"/>
            <a:ext cx="74674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BD7-4E08-457D-A96C-3C414F747C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F11-A884-4859-8EC4-49791360012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F5B-DB82-46EE-988A-D36A5310C6C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41F-D608-4032-AED6-29C69ADE66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7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8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10E-9E00-4AB3-B859-C406C4FF82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9986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41C-F95C-423F-9C1C-F23E84CFC9F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4A5-5B9C-49CB-B9B6-F0897901415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7776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7F6-A30B-417F-93C3-D42B8A76420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FE7-9508-440C-A36D-750C12450B1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853920"/>
            <a:ext cx="746784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ress approves the WRC text and decides on the US table of frequency allo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F5F-719C-4B3C-B4F0-2B4D2260E68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61F-3687-479B-B09E-56FF2813375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4:17:27Z</dcterms:created>
  <dc:creator>vichayes</dc:creator>
  <dc:description/>
  <dc:language>en-US</dc:language>
  <cp:lastModifiedBy>vichayes</cp:lastModifiedBy>
  <cp:lastPrinted>2000-01-13T14:25:30Z</cp:lastPrinted>
  <dcterms:modified xsi:type="dcterms:W3CDTF">2000-01-13T14:45:29Z</dcterms:modified>
  <cp:revision>3</cp:revision>
  <dc:subject/>
  <dc:title>The ITU-R Structure  and Process </dc:title>
</cp:coreProperties>
</file>